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84F-3CA4-4EFC-89EE-3D0EE7AC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E4A-6382-4BAC-88D6-351C71C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02D-5F86-45D1-BBC3-2C351108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E28-D954-45B0-AA5F-D2A7D869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927-C7DE-4EB6-95BA-F49F699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D18-9386-4FAD-AB5D-274A082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99E-2429-4CD2-B94E-ABB1402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941-E7CC-4401-843C-C83E9D5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CAC-4E3B-4280-B0A6-12DEC56F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F9D-6B2A-4015-B3A4-01942F9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E96-81C5-47B3-86EE-638E194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B1D-9D0E-4AAB-944C-17F8D73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45D-32B6-404B-9F5E-7EAB7CBB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70036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86280"/>
            <a:ext cx="247320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1280" y="530064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229000"/>
            <a:ext cx="151272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26920" y="5084640"/>
            <a:ext cx="151308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564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7236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8800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80400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02000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23600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451640" y="674064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1964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528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5128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6728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8292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892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6200000">
            <a:off x="3319560" y="-15112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5983200" y="-151056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4437000"/>
            <a:ext cx="4255920" cy="4064040"/>
          </a:xfrm>
          <a:custGeom>
            <a:avLst/>
            <a:gdLst/>
            <a:ahLst/>
            <a:rect l="l" t="t" r="r" b="b"/>
            <a:pathLst>
              <a:path w="2681" h="2560">
                <a:moveTo>
                  <a:pt x="1174" y="2441"/>
                </a:moveTo>
                <a:cubicBezTo>
                  <a:pt x="1143" y="2379"/>
                  <a:pt x="1109" y="2336"/>
                  <a:pt x="1064" y="2286"/>
                </a:cubicBezTo>
                <a:cubicBezTo>
                  <a:pt x="984" y="2198"/>
                  <a:pt x="1052" y="2243"/>
                  <a:pt x="973" y="2140"/>
                </a:cubicBezTo>
                <a:cubicBezTo>
                  <a:pt x="924" y="2076"/>
                  <a:pt x="858" y="2026"/>
                  <a:pt x="817" y="1957"/>
                </a:cubicBezTo>
                <a:cubicBezTo>
                  <a:pt x="659" y="1695"/>
                  <a:pt x="472" y="1448"/>
                  <a:pt x="342" y="1171"/>
                </a:cubicBezTo>
                <a:cubicBezTo>
                  <a:pt x="290" y="1061"/>
                  <a:pt x="242" y="949"/>
                  <a:pt x="187" y="841"/>
                </a:cubicBezTo>
                <a:cubicBezTo>
                  <a:pt x="12" y="495"/>
                  <a:pt x="97" y="740"/>
                  <a:pt x="13" y="457"/>
                </a:cubicBezTo>
                <a:cubicBezTo>
                  <a:pt x="16" y="427"/>
                  <a:pt x="0" y="387"/>
                  <a:pt x="22" y="366"/>
                </a:cubicBezTo>
                <a:cubicBezTo>
                  <a:pt x="36" y="352"/>
                  <a:pt x="47" y="396"/>
                  <a:pt x="59" y="412"/>
                </a:cubicBezTo>
                <a:cubicBezTo>
                  <a:pt x="83" y="443"/>
                  <a:pt x="71" y="439"/>
                  <a:pt x="104" y="467"/>
                </a:cubicBezTo>
                <a:cubicBezTo>
                  <a:pt x="206" y="555"/>
                  <a:pt x="301" y="688"/>
                  <a:pt x="433" y="732"/>
                </a:cubicBezTo>
                <a:cubicBezTo>
                  <a:pt x="486" y="773"/>
                  <a:pt x="502" y="803"/>
                  <a:pt x="589" y="759"/>
                </a:cubicBezTo>
                <a:cubicBezTo>
                  <a:pt x="611" y="748"/>
                  <a:pt x="612" y="716"/>
                  <a:pt x="625" y="695"/>
                </a:cubicBezTo>
                <a:cubicBezTo>
                  <a:pt x="669" y="626"/>
                  <a:pt x="691" y="612"/>
                  <a:pt x="744" y="540"/>
                </a:cubicBezTo>
                <a:cubicBezTo>
                  <a:pt x="806" y="456"/>
                  <a:pt x="863" y="367"/>
                  <a:pt x="927" y="284"/>
                </a:cubicBezTo>
                <a:cubicBezTo>
                  <a:pt x="1040" y="138"/>
                  <a:pt x="1225" y="56"/>
                  <a:pt x="1393" y="0"/>
                </a:cubicBezTo>
                <a:cubicBezTo>
                  <a:pt x="1430" y="37"/>
                  <a:pt x="1444" y="101"/>
                  <a:pt x="1467" y="147"/>
                </a:cubicBezTo>
                <a:cubicBezTo>
                  <a:pt x="1477" y="185"/>
                  <a:pt x="1494" y="212"/>
                  <a:pt x="1512" y="247"/>
                </a:cubicBezTo>
                <a:cubicBezTo>
                  <a:pt x="1525" y="376"/>
                  <a:pt x="1565" y="488"/>
                  <a:pt x="1640" y="595"/>
                </a:cubicBezTo>
                <a:cubicBezTo>
                  <a:pt x="1654" y="682"/>
                  <a:pt x="1668" y="741"/>
                  <a:pt x="1695" y="823"/>
                </a:cubicBezTo>
                <a:cubicBezTo>
                  <a:pt x="1698" y="832"/>
                  <a:pt x="1714" y="829"/>
                  <a:pt x="1723" y="832"/>
                </a:cubicBezTo>
                <a:cubicBezTo>
                  <a:pt x="1792" y="690"/>
                  <a:pt x="1905" y="557"/>
                  <a:pt x="2033" y="467"/>
                </a:cubicBezTo>
                <a:cubicBezTo>
                  <a:pt x="2036" y="458"/>
                  <a:pt x="2035" y="445"/>
                  <a:pt x="2043" y="439"/>
                </a:cubicBezTo>
                <a:cubicBezTo>
                  <a:pt x="2058" y="428"/>
                  <a:pt x="2097" y="421"/>
                  <a:pt x="2097" y="421"/>
                </a:cubicBezTo>
                <a:cubicBezTo>
                  <a:pt x="2134" y="448"/>
                  <a:pt x="2147" y="461"/>
                  <a:pt x="2161" y="503"/>
                </a:cubicBezTo>
                <a:cubicBezTo>
                  <a:pt x="2152" y="719"/>
                  <a:pt x="2196" y="705"/>
                  <a:pt x="2061" y="787"/>
                </a:cubicBezTo>
                <a:cubicBezTo>
                  <a:pt x="2022" y="726"/>
                  <a:pt x="2001" y="616"/>
                  <a:pt x="2070" y="567"/>
                </a:cubicBezTo>
                <a:cubicBezTo>
                  <a:pt x="2098" y="547"/>
                  <a:pt x="2137" y="554"/>
                  <a:pt x="2171" y="549"/>
                </a:cubicBezTo>
                <a:cubicBezTo>
                  <a:pt x="2637" y="595"/>
                  <a:pt x="2681" y="458"/>
                  <a:pt x="2646" y="823"/>
                </a:cubicBezTo>
                <a:cubicBezTo>
                  <a:pt x="2638" y="902"/>
                  <a:pt x="2628" y="905"/>
                  <a:pt x="2591" y="969"/>
                </a:cubicBezTo>
                <a:cubicBezTo>
                  <a:pt x="2562" y="1172"/>
                  <a:pt x="2594" y="1021"/>
                  <a:pt x="2326" y="1372"/>
                </a:cubicBezTo>
                <a:cubicBezTo>
                  <a:pt x="2227" y="1502"/>
                  <a:pt x="2118" y="1638"/>
                  <a:pt x="1997" y="1747"/>
                </a:cubicBezTo>
                <a:cubicBezTo>
                  <a:pt x="1895" y="1839"/>
                  <a:pt x="1795" y="1927"/>
                  <a:pt x="1723" y="2048"/>
                </a:cubicBezTo>
                <a:cubicBezTo>
                  <a:pt x="1693" y="2098"/>
                  <a:pt x="1678" y="2230"/>
                  <a:pt x="1668" y="2277"/>
                </a:cubicBezTo>
                <a:cubicBezTo>
                  <a:pt x="1662" y="2347"/>
                  <a:pt x="1659" y="2417"/>
                  <a:pt x="1649" y="2487"/>
                </a:cubicBezTo>
                <a:cubicBezTo>
                  <a:pt x="1639" y="2560"/>
                  <a:pt x="1660" y="2544"/>
                  <a:pt x="1613" y="2560"/>
                </a:cubicBezTo>
                <a:cubicBezTo>
                  <a:pt x="1576" y="2504"/>
                  <a:pt x="1618" y="2555"/>
                  <a:pt x="1567" y="2524"/>
                </a:cubicBezTo>
                <a:cubicBezTo>
                  <a:pt x="1560" y="2519"/>
                  <a:pt x="1556" y="2510"/>
                  <a:pt x="1549" y="2505"/>
                </a:cubicBezTo>
                <a:cubicBezTo>
                  <a:pt x="1519" y="2481"/>
                  <a:pt x="1517" y="2486"/>
                  <a:pt x="1476" y="2478"/>
                </a:cubicBezTo>
                <a:cubicBezTo>
                  <a:pt x="1419" y="2424"/>
                  <a:pt x="1481" y="2476"/>
                  <a:pt x="1311" y="2441"/>
                </a:cubicBezTo>
                <a:cubicBezTo>
                  <a:pt x="1288" y="2436"/>
                  <a:pt x="1269" y="2421"/>
                  <a:pt x="1247" y="2414"/>
                </a:cubicBezTo>
                <a:cubicBezTo>
                  <a:pt x="1204" y="2428"/>
                  <a:pt x="1229" y="2420"/>
                  <a:pt x="1174" y="2441"/>
                </a:cubicBezTo>
                <a:close/>
              </a:path>
            </a:pathLst>
          </a:custGeom>
          <a:solidFill>
            <a:srgbClr val="e93e3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384720" y="1341360"/>
            <a:ext cx="338472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ows Are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or Gu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62428E-007 L 0.51962 0.00509 E"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56:48Z</dcterms:created>
  <dc:creator>Mitchell Halley</dc:creator>
  <dc:description/>
  <dc:language>en-US</dc:language>
  <cp:lastModifiedBy>Mitchell Halley</cp:lastModifiedBy>
  <dcterms:modified xsi:type="dcterms:W3CDTF">2010-09-08T03:22:45Z</dcterms:modified>
  <cp:revision>2</cp:revision>
  <dc:subject/>
  <dc:title>Archery</dc:title>
</cp:coreProperties>
</file>