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571-855B-49B3-B118-A683ACF6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A4B-30B2-4E31-8B71-C98338EB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85F-2245-4666-9825-865ACB6A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A23-C29F-4778-B6E1-6E620C4B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5AB9-B410-473B-946D-0263BF68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7900-AFAC-4642-A7CE-46FC465B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008C-A464-43CB-BA6E-D0108A7B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F333-5EF1-4D34-80AD-65BF4952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7487-7883-44C5-9E7F-2094E3D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33CD-D963-4CB1-BA7B-2C53B9DC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6237-6EA0-4134-9244-25A71A48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A2A-B639-4419-9A86-B73D67CF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0B34-444F-4317-B3D3-E70212BA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6D47-A108-4D5A-AE73-3C77BD6E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EACE-C784-47D8-B0A5-3E1B6FD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2EFE-0F92-4FB4-9784-49C04BA6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3E0D-BF19-4DC4-B8A7-E3ECB206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0DC4-1825-4496-AAD6-8A576BFB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704B-1A26-4C49-94D5-39648778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4BBF-30F9-40E0-8E89-A8C48DCC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6840-65D5-4F4E-83DC-562BF8A4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CB44-41D9-4952-9056-DD70564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84E-5B11-4211-9BAB-8ADACA33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757C-9CBD-4258-945C-79A6E5B9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39CA-B3B2-489B-9C2C-91635EE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B86C-ACD6-4EA6-A05F-A4C293C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9F60C-2AD2-4387-A16C-E8A741E4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5F66-70A2-45EE-A12A-61B77C3E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3E76-15A1-4E45-A48F-5C0FB303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585A-3A51-4D18-A936-F49D1324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39C-A16D-4826-A4C2-FF457420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3D6-09AA-4F0A-9D5F-A74A2E56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E8F-DD19-4027-9275-34445334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761-6C1F-47F3-895B-A95C9DAC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D6A-C42D-4776-92C6-E5D6142D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F95-3C5E-4DBB-A66A-474385E2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97C2-89B6-4A77-ABD5-FE8BCA301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CBE4-B0FF-4762-8F04-F683B531F8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DFAA-588A-45EC-B137-3BE966A642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bom.gov.au/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www.kidcyber.com.au/topics/floods.htm" TargetMode="External"/><Relationship Id="rId6" Type="http://schemas.openxmlformats.org/officeDocument/2006/relationships/image" Target="../media/image14.png"/><Relationship Id="rId7" Type="http://schemas.openxmlformats.org/officeDocument/2006/relationships/hyperlink" Target="http://www.ema.gov.au/www/ema/schools.../Get_The_FactsFloods" TargetMode="External"/><Relationship Id="rId8" Type="http://schemas.openxmlformats.org/officeDocument/2006/relationships/hyperlink" Target="http://images.google.com.au/imgres?imgurl=http://bizbox.slate.com/blog/google.jpg&amp;imgrefurl=http://bizbox.slate.com/blog/2009/01/index.php&amp;usg=__LK4xTLfd1PdJQ5_FZWySQ7Cnuz8=&amp;h=300&amp;w=425&amp;sz=34&amp;hl=en&amp;start=4&amp;um=1&amp;itbs=1&amp;tbnid=cIGPCF08mCk7nM:&amp;tbnh=89&amp;tbnw=126&amp;prev=/images%3Fq%3Dgoogle%26um%3D1%26hl%3Den%26safe%3Dactive%26sa%3DG%26tbs%3Disch:1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com.au/imgres?imgurl=http://www.abc.net.au/reslib/200801/r218204_853158.jpg&amp;imgrefurl=http://www.abc.net.au/news/stories/2008/01/22/2143424.htm&amp;usg=__IWIqrbrQCgjAkSQAAa6TWhTebCA=&amp;h=479&amp;w=840&amp;sz=69&amp;hl=en&amp;start=1&amp;um=1&amp;itbs=1&amp;tbnid=B8skd15pumHGtM:&amp;tbnh=83&amp;tbnw=145&amp;prev=/images%3Fq%3Dqld%2Bflood%26um%3D1%26hl%3Den%26safe%3Dactive%26tbs%3Disch: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om.au/imgres?imgurl=http://www.agmates.com/images/55.jpg&amp;imgrefurl=http://www.agmates.com/blog/2008/02/01/central-qlf-flood-devastation-in-pictures/&amp;usg=__khApI85-1YaValNwkjiqj5yjuZg=&amp;h=309&amp;w=500&amp;sz=33&amp;hl=en&amp;start=6&amp;um=1&amp;itbs=1&amp;tbnid=fk0C_uaHdkrtfM:&amp;tbnh=80&amp;tbnw=130&amp;prev=/images%3Fq%3Dqld%2Bflood%26um%3D1%26hl%3Den%26safe%3Dactive%26tbs%3Disch:1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google.com.au/imgres?imgurl=http://images.ninemsn.com.au/resizer.aspx%3Furl%3Dhttp://news.ninemsn.com.au/img/news_feeds/ingham122_400x300.jpg%26width%3D310&amp;imgrefurl=http://news.ninemsn.com.au/national/750237/longreach-braces-for-flooding&amp;usg=__qAg_DLZ5VAj0pObFjA1VfJNj_mc=&amp;h=232&amp;w=310&amp;sz=17&amp;hl=en&amp;start=9&amp;um=1&amp;itbs=1&amp;tbnid=0Cl3T_hciQLXOM:&amp;tbnh=88&amp;tbnw=117&amp;prev=/images%3Fq%3Dqld%2Bflood%26um%3D1%26hl%3Den%26safe%3Dactive%26tbs%3Disch:1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wrh.noaa.gov/tfx/hydro/FAW/ManyGlacierSmall.png&amp;imgrefurl=http://www.wrh.noaa.gov/tfx/hydro/FAW/fawmain.php%3Fwfo%3Dtfx&amp;usg=__byjHDWE-jUk0_EBtA1M39stoumI=&amp;h=300&amp;w=400&amp;sz=300&amp;hl=en&amp;start=1&amp;um=1&amp;itbs=1&amp;tbnid=kkTCOJKQbJqvdM:&amp;tbnh=93&amp;tbnw=124&amp;prev=/images%3Fq%3Dfloods%26um%3D1%26hl%3Den%26safe%3Dactive%26sa%3DN%26tbs%3Disch: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au/imgres?imgurl=http://southasia.oneworld.net/ImageCatalog/bihar-floods.jpg-3&amp;imgrefurl=http://southasia.oneworld.net/ShowCategory%3Fb_start:int%3D10%26type%3DArticle%26id%3D98&amp;usg=__n_g6f4AQTp8EgKqYGnhs6B9gt2M=&amp;h=393&amp;w=610&amp;sz=78&amp;hl=en&amp;start=2&amp;um=1&amp;itbs=1&amp;tbnid=VtldL2g9Y78BdM:&amp;tbnh=88&amp;tbnw=136&amp;prev=/images%3Fq%3Dfloods%26um%3D1%26hl%3Den%26safe%3Dactive%26sa%3DN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.au/imgres?imgurl=http://www.freefoto.com/images/9907/06/9907_06_9---Flash-floods-in-South-Yorkshire_web.jpg&amp;imgrefurl=http://www.freefoto.com/preview/9907-06-9%3Fffid%3D9907-06-9&amp;usg=__INClA0TrrUwFc8S4WVGmnhqjcnQ=&amp;h=402&amp;w=600&amp;sz=88&amp;hl=en&amp;start=14&amp;um=1&amp;itbs=1&amp;tbnid=w5RxpPkiJshs2M:&amp;tbnh=90&amp;tbnw=135&amp;prev=/images%3Fq%3Dfloods%26um%3D1%26hl%3Den%26safe%3Dactive%26sa%3DN%26tbs%3Disch:1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797360"/>
            <a:ext cx="3348000" cy="20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uld like to say thankyou to these web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bom.gov.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kidcyber.com.au/topics/floods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www.ema.gov.au/www/ema/schools.../Get_The_FactsFloods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557360"/>
            <a:ext cx="2881440" cy="203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loo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2920" y="1413000"/>
            <a:ext cx="9001080" cy="4494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6360" y="2276640"/>
            <a:ext cx="68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s can be formed in many different ways like tsunamis heavy rainfall in a flood, water in lakes and dams flow over the land in floods people are usually killed by debris and they can also drown from th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1f1f"/>
                </a:solidFill>
                <a:latin typeface="Arial"/>
              </a:rPr>
              <a:t>A recent Flood happened in Queens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1f1f"/>
                </a:solidFill>
                <a:latin typeface="Arial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376720" cy="1319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413000"/>
            <a:ext cx="2484360" cy="1339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51280" y="1413000"/>
            <a:ext cx="2233440" cy="1330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58920" y="170028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59280" y="2851200"/>
            <a:ext cx="4105080" cy="30891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ent flood has happened in Queensland because of the earthquake in Chile with caused a tsunami to hit the beaches of south east Queensla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s have been a serious warning to Queensland resident this flood has done some damage to Queensland homes and a mother has been killed by some debris in 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0"/>
            <a:ext cx="4681440" cy="3029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3995640" cy="2664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4067280" y="3068640"/>
            <a:ext cx="4752720" cy="357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22:25:54Z</dcterms:created>
  <dc:creator>Mitchell Halley</dc:creator>
  <dc:description/>
  <dc:language>en-US</dc:language>
  <cp:lastModifiedBy>Mitchell Halley</cp:lastModifiedBy>
  <dcterms:modified xsi:type="dcterms:W3CDTF">2010-03-03T23:57:28Z</dcterms:modified>
  <cp:revision>3</cp:revision>
  <dc:subject/>
  <dc:title>Floods </dc:title>
</cp:coreProperties>
</file>