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5.jpeg" ContentType="image/jpeg"/>
  <Override PartName="/ppt/media/image14.png" ContentType="image/png"/>
  <Override PartName="/ppt/media/image5.gif" ContentType="image/gif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22BB-C14E-4F02-B00A-A4977CC32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FAF4-08A3-4E32-8969-B4DEB0FC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B5EC-D5B4-4463-A7E6-51AD76909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FB33-A6F5-4C2D-A6CE-01B354776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B20A-21B6-4F37-ADD9-A5726D93E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F964-8135-4513-AF2C-F4D1734B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F175-4236-4AFB-B809-AACF0812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E8CE-5FCB-45EE-9982-153E5B4A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C77C-26B3-40D1-A462-28891E80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4873-0BD5-46F7-8B3E-28CCFA17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A8FF9-8834-4898-9DDD-7A8601D5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DF28-036C-44DC-9406-33C87EF9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65B1-A76E-427E-B6E4-52CB0A28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8BC7-A6F0-43B7-B7DD-10A7CFD1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B5DF-C2B2-455D-AF15-1EDEBBEE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CCFA-D628-41D7-BD6B-A216EECC4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2CD5-539A-4D69-B14A-F7C9B4C67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9F787-3611-456C-9503-51F5921A8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3598A-C8A5-4660-B8CC-554CA6C5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41230-BB5E-4BE1-8FD6-46CD96B3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82001-4A21-4C84-A06D-E3306C48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6B534-79CA-4AA2-A13E-C3AC11A9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5425-2F59-4233-BEB3-0B92CD5D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AA4FB-6A45-4A64-A95B-EF3989B5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FBABB-8E0E-42D5-ACC7-5214490E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82281-AD43-4584-9E51-10EF24BC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CBA9F-34DD-43FA-AA6D-772556B4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20EB1-9DA3-4147-98E1-A584F2BC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5B8E2-8EA4-4CF9-9556-6C8C9CB00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1A2F1-D8BF-455C-BB51-D4D5ECDD9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942F-4698-4D07-BF92-8A97B2FF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42A3-10DD-4804-8478-D7D7D593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77A1-8A47-4E93-9F56-511F6350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3D51-3961-465B-A4B0-E4D285FD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8FCD-0CEA-4E91-9DBA-5E84C12F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D9F1-19CE-4DBC-9398-8DAD776C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44BD-C604-4913-9DD0-995D95047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7579-5619-48BA-9581-2CDA69AFD9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3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0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331B-540A-4594-B436-6245252DCF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hyperlink" Target="http://www.bom.gov.au/" TargetMode="External"/><Relationship Id="rId4" Type="http://schemas.openxmlformats.org/officeDocument/2006/relationships/image" Target="../media/image14.png"/><Relationship Id="rId5" Type="http://schemas.openxmlformats.org/officeDocument/2006/relationships/hyperlink" Target="http://www.kidcyber.com.au/topics/floods.htm" TargetMode="External"/><Relationship Id="rId6" Type="http://schemas.openxmlformats.org/officeDocument/2006/relationships/image" Target="../media/image14.png"/><Relationship Id="rId7" Type="http://schemas.openxmlformats.org/officeDocument/2006/relationships/hyperlink" Target="http://www.ema.gov.au/www/ema/schools.../Get_The_FactsFloods" TargetMode="External"/><Relationship Id="rId8" Type="http://schemas.openxmlformats.org/officeDocument/2006/relationships/hyperlink" Target="http://images.google.com.au/imgres?imgurl=http://bizbox.slate.com/blog/google.jpg&amp;imgrefurl=http://bizbox.slate.com/blog/2009/01/index.php&amp;usg=__LK4xTLfd1PdJQ5_FZWySQ7Cnuz8=&amp;h=300&amp;w=425&amp;sz=34&amp;hl=en&amp;start=4&amp;um=1&amp;itbs=1&amp;tbnid=cIGPCF08mCk7nM:&amp;tbnh=89&amp;tbnw=126&amp;prev=/images%3Fq%3Dgoogle%26um%3D1%26hl%3Den%26safe%3Dactive%26sa%3DG%26tbs%3Disch:1" TargetMode="External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2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images.google.com.au/imgres?imgurl=http://www.abc.net.au/reslib/200801/r218204_853158.jpg&amp;imgrefurl=http://www.abc.net.au/news/stories/2008/01/22/2143424.htm&amp;usg=__IWIqrbrQCgjAkSQAAa6TWhTebCA=&amp;h=479&amp;w=840&amp;sz=69&amp;hl=en&amp;start=1&amp;um=1&amp;itbs=1&amp;tbnid=B8skd15pumHGtM:&amp;tbnh=83&amp;tbnw=145&amp;prev=/images%3Fq%3Dqld%2Bflood%26um%3D1%26hl%3Den%26safe%3Dactive%26tbs%3Disch:1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images.google.com.au/imgres?imgurl=http://www.agmates.com/images/55.jpg&amp;imgrefurl=http://www.agmates.com/blog/2008/02/01/central-qlf-flood-devastation-in-pictures/&amp;usg=__khApI85-1YaValNwkjiqj5yjuZg=&amp;h=309&amp;w=500&amp;sz=33&amp;hl=en&amp;start=6&amp;um=1&amp;itbs=1&amp;tbnid=fk0C_uaHdkrtfM:&amp;tbnh=80&amp;tbnw=130&amp;prev=/images%3Fq%3Dqld%2Bflood%26um%3D1%26hl%3Den%26safe%3Dactive%26tbs%3Disch:1" TargetMode="External"/><Relationship Id="rId5" Type="http://schemas.openxmlformats.org/officeDocument/2006/relationships/image" Target="../media/image8.jpeg"/><Relationship Id="rId6" Type="http://schemas.openxmlformats.org/officeDocument/2006/relationships/hyperlink" Target="http://images.google.com.au/imgres?imgurl=http://images.ninemsn.com.au/resizer.aspx%3Furl%3Dhttp://news.ninemsn.com.au/img/news_feeds/ingham122_400x300.jpg%26width%3D310&amp;imgrefurl=http://news.ninemsn.com.au/national/750237/longreach-braces-for-flooding&amp;usg=__qAg_DLZ5VAj0pObFjA1VfJNj_mc=&amp;h=232&amp;w=310&amp;sz=17&amp;hl=en&amp;start=9&amp;um=1&amp;itbs=1&amp;tbnid=0Cl3T_hciQLXOM:&amp;tbnh=88&amp;tbnw=117&amp;prev=/images%3Fq%3Dqld%2Bflood%26um%3D1%26hl%3Den%26safe%3Dactive%26tbs%3Disch:1" TargetMode="External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wrh.noaa.gov/tfx/hydro/FAW/ManyGlacierSmall.png&amp;imgrefurl=http://www.wrh.noaa.gov/tfx/hydro/FAW/fawmain.php%3Fwfo%3Dtfx&amp;usg=__byjHDWE-jUk0_EBtA1M39stoumI=&amp;h=300&amp;w=400&amp;sz=300&amp;hl=en&amp;start=1&amp;um=1&amp;itbs=1&amp;tbnid=kkTCOJKQbJqvdM:&amp;tbnh=93&amp;tbnw=124&amp;prev=/images%3Fq%3Dfloods%26um%3D1%26hl%3Den%26safe%3Dactive%26sa%3DN%26tbs%3Disch:1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.au/imgres?imgurl=http://southasia.oneworld.net/ImageCatalog/bihar-floods.jpg-3&amp;imgrefurl=http://southasia.oneworld.net/ShowCategory%3Fb_start:int%3D10%26type%3DArticle%26id%3D98&amp;usg=__n_g6f4AQTp8EgKqYGnhs6B9gt2M=&amp;h=393&amp;w=610&amp;sz=78&amp;hl=en&amp;start=2&amp;um=1&amp;itbs=1&amp;tbnid=VtldL2g9Y78BdM:&amp;tbnh=88&amp;tbnw=136&amp;prev=/images%3Fq%3Dfloods%26um%3D1%26hl%3Den%26safe%3Dactive%26sa%3DN%26tbs%3Disch:1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s.google.com.au/imgres?imgurl=http://www.freefoto.com/images/9907/06/9907_06_9---Flash-floods-in-South-Yorkshire_web.jpg&amp;imgrefurl=http://www.freefoto.com/preview/9907-06-9%3Fffid%3D9907-06-9&amp;usg=__INClA0TrrUwFc8S4WVGmnhqjcnQ=&amp;h=402&amp;w=600&amp;sz=88&amp;hl=en&amp;start=14&amp;um=1&amp;itbs=1&amp;tbnid=w5RxpPkiJshs2M:&amp;tbnh=90&amp;tbnw=135&amp;prev=/images%3Fq%3Dfloods%26um%3D1%26hl%3Den%26safe%3Dactive%26sa%3DN%26tbs%3Disch:1" TargetMode="External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o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4797360"/>
            <a:ext cx="3348000" cy="20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would like to say thankyou to these web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6d1ec"/>
                </a:solidFill>
                <a:uFillTx/>
                <a:latin typeface="Arial"/>
                <a:hlinkClick r:id="rId3"/>
              </a:rPr>
              <a:t>www.bom.gov.a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6d1ec"/>
                </a:solidFill>
                <a:uFillTx/>
                <a:latin typeface="Arial"/>
                <a:hlinkClick r:id="rId5"/>
              </a:rPr>
              <a:t>www.kidcyber.com.au/topics/floods.ht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6d1ec"/>
                </a:solidFill>
                <a:uFillTx/>
                <a:latin typeface="Arial"/>
                <a:hlinkClick r:id="rId7"/>
              </a:rPr>
              <a:t>www.ema.gov.au/www/ema/schools.../Get_The_FactsFloods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716360" y="1557360"/>
            <a:ext cx="2881440" cy="2035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Flood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42920" y="1413000"/>
            <a:ext cx="9001080" cy="44942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476360" y="2276640"/>
            <a:ext cx="684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ods can be formed in many different ways like tsunamis heavy rainfall in a flood, water in lakes and dams flow over the land in floods people are usually killed by debris and they can also drown from the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7000"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7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2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2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2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8" nodeType="after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3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1f1f"/>
                </a:solidFill>
                <a:latin typeface="Arial"/>
              </a:rPr>
              <a:t>A recent Flood happened in Queenslan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1f1f"/>
                </a:solidFill>
                <a:latin typeface="Arial"/>
              </a:rPr>
              <a:t>20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2376720" cy="13190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59640" y="1413000"/>
            <a:ext cx="2484360" cy="13395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851280" y="1413000"/>
            <a:ext cx="2233440" cy="13302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258920" y="1700280"/>
            <a:ext cx="31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059280" y="2851200"/>
            <a:ext cx="4105080" cy="3089160"/>
          </a:xfrm>
          <a:prstGeom prst="rect">
            <a:avLst/>
          </a:prstGeom>
          <a:ln w="0">
            <a:noFill/>
          </a:ln>
        </p:spPr>
      </p:pic>
    </p:spTree>
  </p:cSld>
  <p:transition advTm="9000">
    <p:random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9" dur="2000" fill="hold"/>
                                        <p:tgtEl>
                                          <p:spTgt spid="2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1" dur="2000" fill="hold"/>
                                        <p:tgtEl>
                                          <p:spTgt spid="2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3" dur="2000" fill="hold"/>
                                        <p:tgtEl>
                                          <p:spTgt spid="2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5" dur="2000" fill="hold"/>
                                        <p:tgtEl>
                                          <p:spTgt spid="2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loo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ent flood has happened in Queensland because of the earthquake in Chile with caused a tsunami to hit the beaches of south east Queenslan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loo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loods have been a serious warning to Queensland resident this flood has done some damage to Queensland homes and a mother has been killed by some debris in the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067280" cy="3051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0"/>
            <a:ext cx="4681440" cy="30290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500280"/>
            <a:ext cx="3995640" cy="26640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7"/>
          <a:stretch/>
        </p:blipFill>
        <p:spPr>
          <a:xfrm>
            <a:off x="4067280" y="3068640"/>
            <a:ext cx="4752720" cy="3579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22:25:54Z</dcterms:created>
  <dc:creator>Mitchell Halley</dc:creator>
  <dc:description/>
  <dc:language>en-US</dc:language>
  <cp:lastModifiedBy>Mitchell Halley</cp:lastModifiedBy>
  <dcterms:modified xsi:type="dcterms:W3CDTF">2010-03-03T23:57:28Z</dcterms:modified>
  <cp:revision>3</cp:revision>
  <dc:subject/>
  <dc:title>Floods </dc:title>
</cp:coreProperties>
</file>