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B33-9E62-4CF3-88DF-DDECC60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9B3-B577-4889-83CC-AD82745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ECB-0100-4166-99C9-17195697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3B0-5176-42FF-9CAC-CB7595FF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E15-2C25-4064-A765-53B2FA86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7B6-3DF6-4F53-8063-AF7A35F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0722-E74D-46B1-8320-EB54455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7D9-B305-4D6C-9A32-FD0E126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B02-9807-4898-A79A-0507CBF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2E31-1541-4987-8AF2-E0DB404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85D-3F96-4564-BCED-5268DDF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8CA-365E-42EE-A488-551B73D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14C-7FC4-49A8-87AF-E66DACE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6C7-EE2D-4037-A7CF-45A3876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C194-CC56-4D6C-817F-0E62767D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DE46-4EBD-4561-8FE1-BDF7B3CE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928-1347-42AB-89DC-CA7B7A9B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83D5-737A-4CB6-A209-5A11722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90ED-B5A9-4C6C-8944-0CC17057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7E05-D732-4103-B8EB-7884AD0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6BA4-7BBD-4ABD-99D9-11AF13FB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7B98-4CBB-4921-9E4C-AFBAB329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801-944F-4F8C-94A2-7E2C1701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76F2-6F1D-4B7A-BFD1-90A2366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FC29-921D-467F-9509-9C81497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893B-F28C-4C22-B422-3C92269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065E-9532-48C0-A04E-0FB945B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7AD-E2A0-4586-9C29-C02B889B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64E7-6422-4734-A963-A168B83F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FA41-7815-4D04-93D5-80817BA6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46C-9711-43FA-B6E3-68BC0D5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A4F-9D9E-4B52-8A3B-467D2261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8D8-04BF-4052-9870-C7A14FBA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9B0-18E9-4DC0-B80B-67C916B4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FEB-61BB-48A0-AC5B-AE0698B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996-A537-4D91-A74E-1A986FD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A7B-48EB-4AAD-99A1-330A90CE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F2F-FCC1-45A0-B6B9-0CBACA54D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9E6D-AA81-4F28-BAA5-72848A179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bom.gov.au/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www.kidcyber.com.au/topics/floods.htm" TargetMode="External"/><Relationship Id="rId6" Type="http://schemas.openxmlformats.org/officeDocument/2006/relationships/image" Target="../media/image14.png"/><Relationship Id="rId7" Type="http://schemas.openxmlformats.org/officeDocument/2006/relationships/hyperlink" Target="http://www.ema.gov.au/www/ema/schools.../Get_The_FactsFloods" TargetMode="External"/><Relationship Id="rId8" Type="http://schemas.openxmlformats.org/officeDocument/2006/relationships/hyperlink" Target="http://images.google.com.au/imgres?imgurl=http://bizbox.slate.com/blog/google.jpg&amp;imgrefurl=http://bizbox.slate.com/blog/2009/01/index.php&amp;usg=__LK4xTLfd1PdJQ5_FZWySQ7Cnuz8=&amp;h=300&amp;w=425&amp;sz=34&amp;hl=en&amp;start=4&amp;um=1&amp;itbs=1&amp;tbnid=cIGPCF08mCk7nM:&amp;tbnh=89&amp;tbnw=126&amp;prev=/images%3Fq%3Dgoogle%26um%3D1%26hl%3Den%26safe%3Dactive%26sa%3DG%26tbs%3Disch:1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au/imgres?imgurl=http://www.abc.net.au/reslib/200801/r218204_853158.jpg&amp;imgrefurl=http://www.abc.net.au/news/stories/2008/01/22/2143424.htm&amp;usg=__IWIqrbrQCgjAkSQAAa6TWhTebCA=&amp;h=479&amp;w=840&amp;sz=69&amp;hl=en&amp;start=1&amp;um=1&amp;itbs=1&amp;tbnid=B8skd15pumHGtM:&amp;tbnh=83&amp;tbnw=145&amp;prev=/images%3Fq%3Dqld%2Bflood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om.au/imgres?imgurl=http://www.agmates.com/images/55.jpg&amp;imgrefurl=http://www.agmates.com/blog/2008/02/01/central-qlf-flood-devastation-in-pictures/&amp;usg=__khApI85-1YaValNwkjiqj5yjuZg=&amp;h=309&amp;w=500&amp;sz=33&amp;hl=en&amp;start=6&amp;um=1&amp;itbs=1&amp;tbnid=fk0C_uaHdkrtfM:&amp;tbnh=80&amp;tbnw=130&amp;prev=/images%3Fq%3Dqld%2Bflood%26um%3D1%26hl%3Den%26safe%3Dactive%26tbs%3Disch:1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om.au/imgres?imgurl=http://images.ninemsn.com.au/resizer.aspx%3Furl%3Dhttp://news.ninemsn.com.au/img/news_feeds/ingham122_400x300.jpg%26width%3D310&amp;imgrefurl=http://news.ninemsn.com.au/national/750237/longreach-braces-for-flooding&amp;usg=__qAg_DLZ5VAj0pObFjA1VfJNj_mc=&amp;h=232&amp;w=310&amp;sz=17&amp;hl=en&amp;start=9&amp;um=1&amp;itbs=1&amp;tbnid=0Cl3T_hciQLXOM:&amp;tbnh=88&amp;tbnw=117&amp;prev=/images%3Fq%3Dqld%2Bflood%26um%3D1%26hl%3Den%26safe%3Dactive%26tbs%3Disch:1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wrh.noaa.gov/tfx/hydro/FAW/ManyGlacierSmall.png&amp;imgrefurl=http://www.wrh.noaa.gov/tfx/hydro/FAW/fawmain.php%3Fwfo%3Dtfx&amp;usg=__byjHDWE-jUk0_EBtA1M39stoumI=&amp;h=300&amp;w=400&amp;sz=300&amp;hl=en&amp;start=1&amp;um=1&amp;itbs=1&amp;tbnid=kkTCOJKQbJqvdM:&amp;tbnh=93&amp;tbnw=124&amp;prev=/images%3Fq%3Dfloods%26um%3D1%26hl%3Den%26safe%3Dactive%26sa%3DN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au/imgres?imgurl=http://southasia.oneworld.net/ImageCatalog/bihar-floods.jpg-3&amp;imgrefurl=http://southasia.oneworld.net/ShowCategory%3Fb_start:int%3D10%26type%3DArticle%26id%3D98&amp;usg=__n_g6f4AQTp8EgKqYGnhs6B9gt2M=&amp;h=393&amp;w=610&amp;sz=78&amp;hl=en&amp;start=2&amp;um=1&amp;itbs=1&amp;tbnid=VtldL2g9Y78BdM:&amp;tbnh=88&amp;tbnw=136&amp;prev=/images%3Fq%3Dfloods%26um%3D1%26hl%3Den%26safe%3Dactive%26sa%3D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au/imgres?imgurl=http://www.freefoto.com/images/9907/06/9907_06_9---Flash-floods-in-South-Yorkshire_web.jpg&amp;imgrefurl=http://www.freefoto.com/preview/9907-06-9%3Fffid%3D9907-06-9&amp;usg=__INClA0TrrUwFc8S4WVGmnhqjcnQ=&amp;h=402&amp;w=600&amp;sz=88&amp;hl=en&amp;start=14&amp;um=1&amp;itbs=1&amp;tbnid=w5RxpPkiJshs2M:&amp;tbnh=90&amp;tbnw=135&amp;prev=/images%3Fq%3Dfloods%26um%3D1%26hl%3Den%26safe%3Dactive%26sa%3DN%26tbs%3Disch:1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797360"/>
            <a:ext cx="3348000" cy="20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uld like to say thankyou to thes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bom.gov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kidcyber.com.au/topics/flood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ema.gov.au/www/ema/schools.../Get_The_FactsFlood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203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2920" y="1413000"/>
            <a:ext cx="9001080" cy="4494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6360" y="227664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can be formed in many different ways like tsunamis heavy rainfall in a flood, water in lakes and dams flow over the land in floods people are usually killed by debris and they can also drown from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A recent Flood happened in Queens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1f1f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376720" cy="131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413000"/>
            <a:ext cx="2484360" cy="1339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1413000"/>
            <a:ext cx="2233440" cy="133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170028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2851200"/>
            <a:ext cx="4105080" cy="30891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ent flood has happened in Queensland because of the earthquake in Chile with caused a tsunami to hit the beaches of south east Queens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s have been a serious warning to Queensland resident this flood has done some damage to Queensland homes and a mother has been killed by some debris in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0"/>
            <a:ext cx="468144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99564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4067280" y="3068640"/>
            <a:ext cx="4752720" cy="35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25:54Z</dcterms:created>
  <dc:creator>Mitchell Halley</dc:creator>
  <dc:description/>
  <dc:language>en-US</dc:language>
  <cp:lastModifiedBy>Mitchell Halley</cp:lastModifiedBy>
  <dcterms:modified xsi:type="dcterms:W3CDTF">2010-03-03T23:57:28Z</dcterms:modified>
  <cp:revision>3</cp:revision>
  <dc:subject/>
  <dc:title>Floods </dc:title>
</cp:coreProperties>
</file>