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5.jpeg" ContentType="image/jpeg"/>
  <Override PartName="/ppt/media/image14.png" ContentType="image/png"/>
  <Override PartName="/ppt/media/image5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615-BA07-46C3-B3D4-18943CCD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B48-CCE6-424C-A225-71188B29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86C-1D69-48D4-ABC5-29666A91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89C-4589-4CA9-8441-F5960B0C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2E1D-BE37-4E3F-9F42-66B1F8CA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2501-291C-43B7-9F0A-B959C6D7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DC57-5918-48C8-BEC1-E489B663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FC40-AFC2-4567-88DE-0D2DD568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2878-AFA5-469F-BD44-871722A3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0BE2-3B05-40A9-ADF9-484205A9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94DC-28D2-4A2E-91F2-3F81CC61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B23-0DF1-4201-BA56-327EF0CD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E087-AD14-49D1-972A-5F9D2A05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D2B5-4F0B-4977-B4B6-31161C2D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9F12-2E4A-42DA-A7DE-5F0AF75C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6190-976F-4E91-ACED-CE3E8D5C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3357-8D6A-4ABC-A63B-5ED4461F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EC120-1A87-4793-A450-69EFB5FF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3B42F-837C-49C0-84AB-A087320F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B0D6C-F012-4284-8621-69D066A5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D6D0F-0AB1-4FC0-9150-F856383D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9C07A-29C2-403B-843B-6D8BBF75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52B-7BD2-4205-A1C0-23592341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B8BD-A696-4AEC-8372-AAA1D3B2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47800-7997-42A2-A348-1C756462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5B8E-25D5-40C9-A8EA-BE731D0F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884E5-8338-496F-A73A-16F9DBB3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AE9B-1880-4E3B-8680-370D35A2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43E15-8CF8-483F-9750-7DB1A025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721A-F62A-4383-B7FE-DAD4E64B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F7D-AB05-4AB4-8AE0-D7BF3BAA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0FD-61E4-4043-9B30-9055BABC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8D9-28B0-4982-A451-37181C02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2BC-22FF-4935-810A-CCD74DE3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1D3-ECF9-4411-85B6-2A47E4A4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2CC-1F09-4185-B465-7208B376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4D2A-0245-4EB3-86B1-9722F9EB1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978B-FD8A-429C-AEA8-F445045F7E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2D91-82A9-41DE-BD9B-0F821E1515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hyperlink" Target="http://www.bom.gov.au/" TargetMode="External"/><Relationship Id="rId4" Type="http://schemas.openxmlformats.org/officeDocument/2006/relationships/image" Target="../media/image14.png"/><Relationship Id="rId5" Type="http://schemas.openxmlformats.org/officeDocument/2006/relationships/hyperlink" Target="http://www.kidcyber.com.au/topics/floods.htm" TargetMode="External"/><Relationship Id="rId6" Type="http://schemas.openxmlformats.org/officeDocument/2006/relationships/image" Target="../media/image14.png"/><Relationship Id="rId7" Type="http://schemas.openxmlformats.org/officeDocument/2006/relationships/hyperlink" Target="http://www.ema.gov.au/www/ema/schools.../Get_The_FactsFloods" TargetMode="External"/><Relationship Id="rId8" Type="http://schemas.openxmlformats.org/officeDocument/2006/relationships/hyperlink" Target="http://images.google.com.au/imgres?imgurl=http://bizbox.slate.com/blog/google.jpg&amp;imgrefurl=http://bizbox.slate.com/blog/2009/01/index.php&amp;usg=__LK4xTLfd1PdJQ5_FZWySQ7Cnuz8=&amp;h=300&amp;w=425&amp;sz=34&amp;hl=en&amp;start=4&amp;um=1&amp;itbs=1&amp;tbnid=cIGPCF08mCk7nM:&amp;tbnh=89&amp;tbnw=126&amp;prev=/images%3Fq%3Dgoogle%26um%3D1%26hl%3Den%26safe%3Dactive%26sa%3DG%26tbs%3Disch:1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com.au/imgres?imgurl=http://www.abc.net.au/reslib/200801/r218204_853158.jpg&amp;imgrefurl=http://www.abc.net.au/news/stories/2008/01/22/2143424.htm&amp;usg=__IWIqrbrQCgjAkSQAAa6TWhTebCA=&amp;h=479&amp;w=840&amp;sz=69&amp;hl=en&amp;start=1&amp;um=1&amp;itbs=1&amp;tbnid=B8skd15pumHGtM:&amp;tbnh=83&amp;tbnw=145&amp;prev=/images%3Fq%3Dqld%2Bflood%26um%3D1%26hl%3Den%26safe%3Dactive%26tbs%3Disch:1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google.com.au/imgres?imgurl=http://www.agmates.com/images/55.jpg&amp;imgrefurl=http://www.agmates.com/blog/2008/02/01/central-qlf-flood-devastation-in-pictures/&amp;usg=__khApI85-1YaValNwkjiqj5yjuZg=&amp;h=309&amp;w=500&amp;sz=33&amp;hl=en&amp;start=6&amp;um=1&amp;itbs=1&amp;tbnid=fk0C_uaHdkrtfM:&amp;tbnh=80&amp;tbnw=130&amp;prev=/images%3Fq%3Dqld%2Bflood%26um%3D1%26hl%3Den%26safe%3Dactive%26tbs%3Disch:1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images.google.com.au/imgres?imgurl=http://images.ninemsn.com.au/resizer.aspx%3Furl%3Dhttp://news.ninemsn.com.au/img/news_feeds/ingham122_400x300.jpg%26width%3D310&amp;imgrefurl=http://news.ninemsn.com.au/national/750237/longreach-braces-for-flooding&amp;usg=__qAg_DLZ5VAj0pObFjA1VfJNj_mc=&amp;h=232&amp;w=310&amp;sz=17&amp;hl=en&amp;start=9&amp;um=1&amp;itbs=1&amp;tbnid=0Cl3T_hciQLXOM:&amp;tbnh=88&amp;tbnw=117&amp;prev=/images%3Fq%3Dqld%2Bflood%26um%3D1%26hl%3Den%26safe%3Dactive%26tbs%3Disch:1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wrh.noaa.gov/tfx/hydro/FAW/ManyGlacierSmall.png&amp;imgrefurl=http://www.wrh.noaa.gov/tfx/hydro/FAW/fawmain.php%3Fwfo%3Dtfx&amp;usg=__byjHDWE-jUk0_EBtA1M39stoumI=&amp;h=300&amp;w=400&amp;sz=300&amp;hl=en&amp;start=1&amp;um=1&amp;itbs=1&amp;tbnid=kkTCOJKQbJqvdM:&amp;tbnh=93&amp;tbnw=124&amp;prev=/images%3Fq%3Dfloods%26um%3D1%26hl%3Den%26safe%3Dactive%26sa%3DN%26tbs%3Disch:1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.au/imgres?imgurl=http://southasia.oneworld.net/ImageCatalog/bihar-floods.jpg-3&amp;imgrefurl=http://southasia.oneworld.net/ShowCategory%3Fb_start:int%3D10%26type%3DArticle%26id%3D98&amp;usg=__n_g6f4AQTp8EgKqYGnhs6B9gt2M=&amp;h=393&amp;w=610&amp;sz=78&amp;hl=en&amp;start=2&amp;um=1&amp;itbs=1&amp;tbnid=VtldL2g9Y78BdM:&amp;tbnh=88&amp;tbnw=136&amp;prev=/images%3Fq%3Dfloods%26um%3D1%26hl%3Den%26safe%3Dactive%26sa%3DN%26tbs%3Disch: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.au/imgres?imgurl=http://www.freefoto.com/images/9907/06/9907_06_9---Flash-floods-in-South-Yorkshire_web.jpg&amp;imgrefurl=http://www.freefoto.com/preview/9907-06-9%3Fffid%3D9907-06-9&amp;usg=__INClA0TrrUwFc8S4WVGmnhqjcnQ=&amp;h=402&amp;w=600&amp;sz=88&amp;hl=en&amp;start=14&amp;um=1&amp;itbs=1&amp;tbnid=w5RxpPkiJshs2M:&amp;tbnh=90&amp;tbnw=135&amp;prev=/images%3Fq%3Dfloods%26um%3D1%26hl%3Den%26safe%3Dactive%26sa%3DN%26tbs%3Disch:1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797360"/>
            <a:ext cx="3348000" cy="20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ould like to say thankyou to these web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www.bom.gov.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www.kidcyber.com.au/topics/floods.ht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www.ema.gov.au/www/ema/schools.../Get_The_FactsFloods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1557360"/>
            <a:ext cx="2881440" cy="203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loo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42920" y="1413000"/>
            <a:ext cx="9001080" cy="4494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476360" y="2276640"/>
            <a:ext cx="68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s can be formed in many different ways like tsunamis heavy rainfall in a flood, water in lakes and dams flow over the land in floods people are usually killed by debris and they can also drown from th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7000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1f1f"/>
                </a:solidFill>
                <a:latin typeface="Arial"/>
              </a:rPr>
              <a:t>A recent Flood happened in Queensl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1f1f"/>
                </a:solidFill>
                <a:latin typeface="Arial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2376720" cy="1319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413000"/>
            <a:ext cx="2484360" cy="1339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51280" y="1413000"/>
            <a:ext cx="2233440" cy="1330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58920" y="170028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59280" y="2851200"/>
            <a:ext cx="4105080" cy="308916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ent flood has happened in Queensland because of the earthquake in Chile with caused a tsunami to hit the beaches of south east Queensla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oods have been a serious warning to Queensland resident this flood has done some damage to Queensland homes and a mother has been killed by some debris in the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0"/>
            <a:ext cx="4681440" cy="30290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500280"/>
            <a:ext cx="3995640" cy="2664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4067280" y="3068640"/>
            <a:ext cx="4752720" cy="3579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22:25:54Z</dcterms:created>
  <dc:creator>Mitchell Halley</dc:creator>
  <dc:description/>
  <dc:language>en-US</dc:language>
  <cp:lastModifiedBy>Mitchell Halley</cp:lastModifiedBy>
  <dcterms:modified xsi:type="dcterms:W3CDTF">2010-03-03T23:57:28Z</dcterms:modified>
  <cp:revision>3</cp:revision>
  <dc:subject/>
  <dc:title>Floods </dc:title>
</cp:coreProperties>
</file>